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EA1-8D01-4936-AB99-81E316DF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ED7-5497-496F-9339-D9C3C7D9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EF7-0C15-4863-BE80-952B4CEB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9DD-4E6C-4A25-BB6F-D6BEFB25B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0F1-012B-4DED-B6A6-7C004FF0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585-7412-4F26-95AC-D761AD21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2B7-16D5-43CA-A6CD-DFB3E2A7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778-6DC1-4FE0-BC22-E6F93E8F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5DC3-1E8B-447F-87D4-8E4679DF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17F-9A56-402E-A250-7A8BAFB9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05B5-53CE-47EC-98C3-E8F09844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3A2-C187-48FD-9A76-184CAD3B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72A1-6964-4D8D-BCAA-23DFBC6B2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-360" y="152280"/>
            <a:ext cx="9372600" cy="746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ad - degr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chtemperatur (f) – high 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eftemperatur (f) – low temp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 Wetterbericht – weather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e Wettervorhersage – weather forec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e Nachricht – the n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e Nachrichten – the news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 Sonderbericht – special rep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t – wi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zlich Willkommen  bei – welcome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ese – this (wee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nal – cha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ndung – cha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n – fr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hen – to look for (see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suchst du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e sieht er/sie/es aus? (What does he look like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5410080" y="23623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e ist er?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hat is he lik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8:37:31Z</dcterms:created>
  <dc:creator>ahart</dc:creator>
  <dc:description/>
  <dc:language>en-US</dc:language>
  <cp:lastModifiedBy>ahart</cp:lastModifiedBy>
  <dcterms:modified xsi:type="dcterms:W3CDTF">2012-11-08T17:56:40Z</dcterms:modified>
  <cp:revision>22</cp:revision>
  <dc:subject/>
  <dc:title>Slide 1</dc:title>
</cp:coreProperties>
</file>